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png" ContentType="image/png"/>
  <Override PartName="/ppt/media/image15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6C89-E3F1-4658-8B13-1DE7B9281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companies with effective HR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31C6-8730-4D84-9117-A5DE4029B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1347-6240-4504-86AE-6C2400F97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DE4-CC2D-41FB-81CE-0E0A9A8F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621-BFE9-471C-B783-C3380F44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66F-AFC5-42B0-BB37-5BDFC076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862-982A-4538-B866-E73FDDF2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720F-2207-447F-BDD0-6EE54678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8317-F40F-4EBF-A1FB-EEF7757F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EFE1-6D9A-4DEC-8901-E699D9D9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D8E9-7A42-48D5-9B8C-2F74B00A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6A8E-0910-49EC-87B8-D8E80A57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4641-B636-4A04-94AC-936DB642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D251-784E-474D-B90B-3CC201E5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E92-EA87-4B26-9D29-664E1387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C772-1B4C-4157-9EDF-30373DB0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3F61-381A-450C-9B20-8E6F7935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339B-832C-4A98-9144-2DCD0BBE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195C-86EF-4F18-BF45-B433A181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6D24-EB38-4A3B-A440-FAE51D70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41D8C-C8FC-4DAD-9D60-469D9FE0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B590-BEFE-4287-B2F7-D422B3F5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50933-1465-4C90-B389-48E2CC71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CE4D3-8148-49D1-9A69-0314D826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44D07-87C7-422B-9CDE-6B0BA4A2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196D-90FB-4723-BCDB-B8353702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5034A-51A8-4099-BAFB-F61821F2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FEFC2-F263-443F-89EA-5C029608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BCE9E-1249-4617-AD46-69EB2F33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F2C71-8C2D-4E61-B195-A77D39FF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9285C-85D5-488B-A995-2A72C5BA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B9D0E-792B-4CCC-B0EF-71078712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68187-7B3D-4147-88E5-3C6A8971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7D38E-399E-4B55-9C53-5D5E92D1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F4745-788E-43C3-9B7B-0AC069ED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7E4EC-E0E0-4026-A357-884ADFFD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022-54F4-42AF-BF09-4BE9F534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37513-F1FD-43B3-B321-A7F0401E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A230-8172-4542-BE69-F40E7CD5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FA4D1-D232-4552-9814-26A0A186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79253-58C6-4D7B-A6B1-B7E6FA5D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5133A-F958-48DF-A430-826458B1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3160-D0E2-418B-8BC4-1137ABDE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754F7-220B-4BC7-BA87-730EBA18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10AC9-282C-4B99-BA47-260BA0D8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0B888-3F7F-4BE1-9E0A-74FC7091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1A1B8-DCCF-406F-B884-73A9CC88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345-28AA-4AED-A80F-5BC8ADF6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D5D1B-9CB3-4200-893B-319766D3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7EF64-350F-478C-B18D-BED2A56B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CBEEB-067C-40BC-80DF-BC3266B3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6E47A-BA60-4249-9821-9B46B961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9AE39-B0ED-4260-941E-6334B592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B81AC-6509-4A56-9CDE-42181812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70D62-D30A-4786-B68E-B82FE67E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D5465-709A-4B46-AE95-BCEDEE60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63E39-623C-4936-9CC3-11C9D3DF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7C7CC-DDF3-4982-B70C-C7642147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B42C-AE20-4179-B31F-B76542E6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B83E6-18B1-4FCF-BCA8-D4533125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361B8-70C9-4BF3-A61D-953CBE73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5E2D9-DE82-4BDA-87AA-22911FE0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4BE19-5BCB-422C-A2CE-C68FCAB0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C777F-FA5D-4375-B88C-C7CB2170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DAB7E-A344-47FE-A6F5-54E570CF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A6E76-AC2E-47D2-B96A-3BF5959D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3A5BB-8D34-4EE6-AE3F-50748932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F4D62-F215-485F-869A-039AA741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38C25-034E-487F-86C9-46374DE5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B41-CA50-4BB1-A541-AF47166E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5D513-F047-40BC-8C5A-A48D6F7E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C55C5-7410-412A-8FC2-3D239D68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EDB92-DB9D-4129-9636-B5527BB5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253D0-7137-4C7C-B9DA-DFCBC64B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B5645-C755-4B24-8EA2-AF6BA9C0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B7629-680D-4E52-A48A-0D1759B6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6C27E-F471-4964-A179-68819A87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0814A-0BCA-4774-8017-1F6C2903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9B813-BB98-4160-B9E2-FC972B52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0E9A0-D37B-4E24-90F8-A9BD4ED1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C38-8F81-43CD-8CD3-5F9932C4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5EF2F-EB08-49F0-9A4B-C7B99979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E0146-7496-412F-9980-A94BBE1B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88BA5-0BA0-427F-8506-72D0C033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83A3C-3E86-42CC-AA9A-97700A57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B409C-175E-4927-9A23-5493486F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BE3-766B-4DF6-9F09-F7D8EF99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D560-EDAC-42FD-8700-7D4A3F5EBBD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A6E3-2897-46E0-BCE0-092E4751BDC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3D83-BC3F-4886-92C6-EF28E98A04C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339E-96C8-46A1-BD18-D53D08D767C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6D2F-B85B-4DBF-A4EF-97B4235E265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B632-EDEC-45B4-98F0-9373FA6F861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B009-4221-422A-A58B-A2203256971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uman Resource Manage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Business Concepts and Care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stablishing Polic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r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cip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mo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2" name="Picture 3" descr="policies.jpg"/>
          <p:cNvPicPr/>
          <p:nvPr/>
        </p:nvPicPr>
        <p:blipFill>
          <a:blip r:embed="rId1"/>
          <a:stretch/>
        </p:blipFill>
        <p:spPr>
          <a:xfrm>
            <a:off x="4648320" y="1676520"/>
            <a:ext cx="3638520" cy="3787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53" name="Picture 4" descr="policymanual.jpg"/>
          <p:cNvPicPr/>
          <p:nvPr/>
        </p:nvPicPr>
        <p:blipFill>
          <a:blip r:embed="rId2"/>
          <a:stretch/>
        </p:blipFill>
        <p:spPr>
          <a:xfrm>
            <a:off x="1676520" y="4114800"/>
            <a:ext cx="1752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ollowing Labor Law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 all labor laws being follow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process to make su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Picture 3" descr="fish.jpg"/>
          <p:cNvPicPr/>
          <p:nvPr/>
        </p:nvPicPr>
        <p:blipFill>
          <a:blip r:embed="rId1"/>
          <a:stretch/>
        </p:blipFill>
        <p:spPr>
          <a:xfrm>
            <a:off x="3733920" y="3505320"/>
            <a:ext cx="262872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57" name="Picture 4" descr="osha.jpg"/>
          <p:cNvPicPr/>
          <p:nvPr/>
        </p:nvPicPr>
        <p:blipFill>
          <a:blip r:embed="rId2"/>
          <a:stretch/>
        </p:blipFill>
        <p:spPr>
          <a:xfrm>
            <a:off x="1219320" y="3429000"/>
            <a:ext cx="2143080" cy="213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58" name="Picture 5" descr="ada.png"/>
          <p:cNvPicPr/>
          <p:nvPr/>
        </p:nvPicPr>
        <p:blipFill>
          <a:blip r:embed="rId3"/>
          <a:stretch/>
        </p:blipFill>
        <p:spPr>
          <a:xfrm>
            <a:off x="6705720" y="3200400"/>
            <a:ext cx="2162160" cy="2114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84772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Companies with effective HRM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mployees and customers tend to be more satisfi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he companies tend to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10224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be more innovativ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10224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ave greater productiv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10224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evelop a more favorable reputation in the commun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uman Resource Manage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he policies, practices, and systems that influence employees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19337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19337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19337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R Responsibilit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ob Analy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cruiting &amp; Hiring Employe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ining &amp; Develop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rformance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y &amp; Benefi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mployee Rel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stablishing Polic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llowing all Labor law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b Analy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tting detailed information about a job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ing a job descrip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3" name="Picture 3" descr="job description.jpg"/>
          <p:cNvPicPr/>
          <p:nvPr/>
        </p:nvPicPr>
        <p:blipFill>
          <a:blip r:embed="rId1"/>
          <a:stretch/>
        </p:blipFill>
        <p:spPr>
          <a:xfrm>
            <a:off x="4876920" y="2816280"/>
            <a:ext cx="313344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cruiting and Hiring Employe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crui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nding qualified people to apply for jo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r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lecting the best pers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this person have the necessa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nowledg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kill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iliti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3" descr="hire-best-candidate.png"/>
          <p:cNvPicPr/>
          <p:nvPr/>
        </p:nvPicPr>
        <p:blipFill>
          <a:blip r:embed="rId1"/>
          <a:stretch/>
        </p:blipFill>
        <p:spPr>
          <a:xfrm>
            <a:off x="4724280" y="4267080"/>
            <a:ext cx="41418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aining and Develop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294920" y="1447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ining: Helping employees learn job-relat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havi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velopment:  Improving employee’s trai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f job chang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Picture 3" descr="training.jpg"/>
          <p:cNvPicPr/>
          <p:nvPr/>
        </p:nvPicPr>
        <p:blipFill>
          <a:blip r:embed="rId1"/>
          <a:stretch/>
        </p:blipFill>
        <p:spPr>
          <a:xfrm>
            <a:off x="5175360" y="2127240"/>
            <a:ext cx="309060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erformance Manage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eeping track of employee performanc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Picture 3" descr="performance.jpg"/>
          <p:cNvPicPr/>
          <p:nvPr/>
        </p:nvPicPr>
        <p:blipFill>
          <a:blip r:embed="rId1"/>
          <a:stretch/>
        </p:blipFill>
        <p:spPr>
          <a:xfrm>
            <a:off x="4486320" y="2657520"/>
            <a:ext cx="32986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lanning and Managing Pay &amp; Benefi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much should the job pa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ould there be bonus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benefits should be offer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much money is available for pa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Picture 5" descr="paybenefits.jpg"/>
          <p:cNvPicPr/>
          <p:nvPr/>
        </p:nvPicPr>
        <p:blipFill>
          <a:blip r:embed="rId1"/>
          <a:stretch/>
        </p:blipFill>
        <p:spPr>
          <a:xfrm>
            <a:off x="1285920" y="3876840"/>
            <a:ext cx="2536920" cy="2536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health.jpg"/>
          <p:cNvPicPr/>
          <p:nvPr/>
        </p:nvPicPr>
        <p:blipFill>
          <a:blip r:embed="rId2"/>
          <a:stretch/>
        </p:blipFill>
        <p:spPr>
          <a:xfrm>
            <a:off x="5022720" y="4108320"/>
            <a:ext cx="33958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aintaining positive employee relation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viding handbooks &amp; polic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mployee newslett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municating with employe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nefits &amp; polic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crim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fety haza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ass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9" name="Picture 3" descr="happy.jpg"/>
          <p:cNvPicPr/>
          <p:nvPr/>
        </p:nvPicPr>
        <p:blipFill>
          <a:blip r:embed="rId1"/>
          <a:stretch/>
        </p:blipFill>
        <p:spPr>
          <a:xfrm>
            <a:off x="4943520" y="3267000"/>
            <a:ext cx="352404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00:30:34Z</dcterms:created>
  <dc:creator>Lisa</dc:creator>
  <dc:description/>
  <dc:language>en-US</dc:language>
  <cp:lastModifiedBy>Phil Schneider</cp:lastModifiedBy>
  <dcterms:modified xsi:type="dcterms:W3CDTF">2015-10-12T21:22:19Z</dcterms:modified>
  <cp:revision>22</cp:revision>
  <dc:subject/>
  <dc:title>Human Resource Management</dc:title>
</cp:coreProperties>
</file>